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C715-925C-4CA0-AC6A-69188D708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7F1-F177-4A45-9EC9-1765C86D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84C-EC9C-479C-963D-901136BD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25F-D0C3-4750-A1C2-BABCC1F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072-4E8C-43C1-A762-E6E8A6E8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C8A-0C54-481D-BE62-F076DA4E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FBB-A2C4-414D-9BF7-86B1F6C0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B14-674C-4C02-AC2D-68C7BE5B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EF9-4BFC-42D4-8E84-0ED63D5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B3A-18D6-4F8B-9606-4600A8D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6B7-7A54-492E-99A0-3A8E0D7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209-AEFD-4F5B-8C0A-E0CBD91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47A-2736-485B-8496-B067F6D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8F4-6DA4-4984-A8D3-1E78AE8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C1BF-E6E0-4016-AB7C-8979CCDAB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 др 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усни застој у ра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809880" y="53964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УСНИ ЗАСТОЈ 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 УЗ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трупа, обим главе, бипаријетални дијаметар, дужина фемура, Доплер проток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а се у 2 клиничка обли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АН, ПРОПОРЦИОНАЛАН, РАНИ ИЛИ УНУТРАШЊИ (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SINC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 ИУЗ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42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: хромозомских аберација, метабол.поремећаја, коштаних аномалија, инфекција,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рано, пре 24.г.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но су ↓ ОГ и 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знатљ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ог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н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е незрел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еолар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ус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њ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к је прематурном НН или престаје раст фетус (фетална смр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7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АН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294920"/>
            <a:ext cx="9144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: Хроничне феталне хипоксије, смањеног калоријског уноса, кас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е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касније, после 34 Г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је израженије од 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ша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угласт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н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зд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ве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ира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дом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уч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иве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к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љ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р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же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скавиц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оз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дражљи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МАТУРН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6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на застој у расту код п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ешеног новорођенчета, ГС &gt;42г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 је мршав, без ПМ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ана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ос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но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ањ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увек..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ојени меконијум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у живот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 је фактор ризика за појаву ДМ тип 2 и интолеранције глукоз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3573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8360" y="762120"/>
            <a:ext cx="86756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атални разво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зиго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д зачећа до краја 1 г.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 7-9 дана зачећа до кра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 9гн до краја трудно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85840" y="0"/>
            <a:ext cx="88581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и рас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ал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рж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ов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ар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далн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м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уј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onski gonadotropin HC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в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њ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-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рце подљено на 2 дела, плућа на 2 плућна кр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колики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14-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онхије почињу са функциој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430200" y="220680"/>
            <a:ext cx="83818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 рас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а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и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12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т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тор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е, прсти,црева у абдомену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е гениталије (тешко видљ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УЗ)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оров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-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чниј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у са растом лануго длачице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ој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ж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уг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чиц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к има милионе моторних нерава – сиса палац, формира се кожа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онију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0"/>
            <a:ext cx="892980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 почињу да примају О2, почиње стварање сурфактанта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а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ују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в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авиц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00-70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к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. Андрогени фетус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оген и естроген) стимулишу продукцију пролактина → колострум. Продукује око 50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 сваки да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потпуно формирана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н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ма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ама, зрела плућа (преживљавање без машина), редукованих покрета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00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70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33520" y="6094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ј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уг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чиц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љк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скавиц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ш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т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хов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лучење кортизола- сазревају плућ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 увек се подукује масно тк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елопоез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а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еви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АЦИЈСК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258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шер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мура, висина фундуса матер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естриола у крви или урину мај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ф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нск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ш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-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ацијс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УСНИ ЗАСТОЈ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160" y="1523520"/>
            <a:ext cx="90010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дјенч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у ТМ на рођењу има свако новорођенче које на рођењу има Т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росечне за Г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 се 2 груп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генетски ниским потенцијалом за ра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УЗР – немогућност плода да достигне генетски потенциј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088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ИУЗ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44756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 генетск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зомск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формациј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 (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НИ</a:t>
            </a:r>
            <a:r>
              <a:rPr b="0" lang="hr-HR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упциј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и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НАЛНИ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&gt;3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пл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храњеност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ењ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8T17:32:57Z</dcterms:created>
  <dc:creator>Miki</dc:creator>
  <dc:description/>
  <dc:language>en-US</dc:language>
  <cp:lastModifiedBy>Miki</cp:lastModifiedBy>
  <dcterms:modified xsi:type="dcterms:W3CDTF">2020-09-29T15:10:41Z</dcterms:modified>
  <cp:revision>51</cp:revision>
  <dc:subject/>
  <dc:title>IUGR</dc:title>
</cp:coreProperties>
</file>