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89C-8FFB-4303-80E4-2C304F33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476-2457-4187-A577-DBBFE3EC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EA0-3A4D-48D6-A517-D25648EC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327-5FD2-4F40-A12C-1CA163F6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B6A-183C-4701-8040-50FBC4F0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59D-FEB6-49D0-B33D-C6BF1399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75D-054D-409A-A47A-DFEAC3C8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C69-3582-4DF7-9A89-BA491695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E76-4B23-437D-AF85-CBBD5B26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496-8CB6-44E1-8FCD-75609260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931-0AB0-4128-9834-0D65955F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F2E-AED6-47BD-A1C8-F9B43747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A994-9A07-4E01-A289-E64628D48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 </a:t>
            </a:r>
            <a:br>
              <a:rPr sz="4400"/>
            </a:b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неде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257800" y="730080"/>
            <a:ext cx="390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33560" y="48769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ана Са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2795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фактант ..... укупно 5 доза током прве недеље хоспитализ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25430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- ом дану хоспитализ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torax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наглим погоршањем општег стања: па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O2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40%, нечујно дисање са десне стране, са видљивом одигнутом куполом десне стране г.коша која се не покреће при вентилациј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376440" y="380880"/>
            <a:ext cx="2543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544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6- ом дану хоспитализ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скултаторно ...срчана радња ритмична, тонови јасни чујан систолни шум 3/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лошки УЗ: присута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ирине 2,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 (1440g)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емодинамски значаја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ЦНСа: указује на незреле можда структуре. Присута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 хеморагија. Изражене хиперехоге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фармаколошко затварањ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uprofen- o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у укључе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nolact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 праћење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срца након 8 дана: Након добијене терапиј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A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хемодинамског значај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ЦН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2 недеље: Коморе у физиолошким границама. Лево перивентрикуларно присутан хематом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ражене хиперехоге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 у 6- ој недељи хоспитализације: Показује знаке ниске гестације, коморе нешто шире, им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улкуси у инсули показују да је </a:t>
            </a:r>
            <a:r>
              <a:rPr b="0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гло 34 недељу гестације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 паренхиму се одржавају хиперехоге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 терапија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о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icilin, Amikacin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тим од 2- ог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pene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ишени запаљенски параметр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пута коригована према антибиограм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tin, Conet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ечена пнеумон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графија након завршеног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шко НН, хоспитализовано у 1- ом дану живота, тј у 2са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хоспитализације: незрелост и респираторно погорш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везани за ток трудноћ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ка хоспитализована у ГАК, 3 дана пре порођаја, због јаких бол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352680" y="838080"/>
            <a:ext cx="2544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Da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aso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V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PAPa-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9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icort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pironolact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на РОП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пута контролисан од 3 недељенакон рођ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6-ој недељи аплицира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 VEGF intravitrea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ни налази у побољша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дана адаптирана млечна формула за превремено рођену де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средином 5- те недеље, због пролазне интолеранције ентералне исхране храњено хидролизатом чисте сурутке- укупно 2 неде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на даље стандардна адаптирана млечна форму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албуминем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и протеини 36...4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бумин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…27 g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С плазме, 2 дозе Хуманих албум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дозе ТС деплазматисаних еритроц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ум сиру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билитациони третм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10 недељ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бром општем ста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=25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л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ason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 дете из контролисане трудно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 завршен природним пут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ју подаци о изгледу пл.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и овојци прокинути непосредно пред порођа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родичне аналнез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 мајке ``О``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D +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зитив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одатака везаних за наслеђ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шња болест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ођењу заплакало тихим гласо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ирани горњи дисајни путев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45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ТД=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cm,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=29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7, ГС=31 недељ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о у изолету- плаче, сте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у породилишту: О2, Вит 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 није прими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тестови нису урађен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 при пријему ОИНН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емено рођено мушко НН у 2сату живо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сно, </a:t>
            </a:r>
            <a:r>
              <a:rPr b="1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ње и јечи тихим гласом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ше површно, </a:t>
            </a:r>
            <a:r>
              <a:rPr b="1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пноично, диспноичн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</a:t>
            </a:r>
            <a:r>
              <a:rPr b="1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ка, провидна, без лануго длачиц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убцијанотична, са суфузијама на л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O2=40%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удом, не пооправљ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O2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убирано у 10- ом  минуту од прије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=144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Д=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cm,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=29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ГК=2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...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Т слабије развијено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не шкољке мек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лабије моделиране. Г.кош 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ак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иметрично респираторно покретан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O2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- 93%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V (PC).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10 минута од пријем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O2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 до 75% и не поправља се. Над плућима ослабњен, до нечујан дисајни звук.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=45 задатих/70 остварених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erman Score: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р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ак.абдом.балансирање 2; увачење интеркосталних простора 1; увлачење стернума 0; лепршање ноздрва 1; експираторно јечање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=137/м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и слабо покретни без едема.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 снижен. Примитивни рефлекси се редуковано изазивај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остали налаз уреда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њена ГС 29/30 недељ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недељ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недељ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5cm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8 cm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2,9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5- 36 cm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0cm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4 c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=14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Д=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е при пријему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- указују на ацидоз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K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: ``А``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D +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зитив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плућа: замагљено плућно ткиво са бронхограмом преко срчане сен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2T10:23:34Z</dcterms:created>
  <dc:creator>Miki</dc:creator>
  <dc:description/>
  <dc:language>en-US</dc:language>
  <cp:lastModifiedBy>Miki</cp:lastModifiedBy>
  <dcterms:modified xsi:type="dcterms:W3CDTF">2020-09-29T15:15:25Z</dcterms:modified>
  <cp:revision>37</cp:revision>
  <dc:subject/>
  <dc:title>PowerPoint Presentation</dc:title>
</cp:coreProperties>
</file>