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0FB7-57C7-4A01-BC66-5E1208A0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01C-F4FB-44B3-81E8-B4EA70B8FE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0178-C502-4F66-B8F1-689059B4B3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7408-72AF-4B58-912D-6439E1640B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56D3-95CC-4C24-964D-8E403BC5CD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E13-4871-4C20-BE4F-2F8871E3DE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0292-6A98-4AEB-A6F9-D17133F23A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1E3-0514-468F-8C55-AD9649C3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907-6033-453B-B3E8-4B04B52C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2F8D7-EDDF-46A6-A0C5-5DAE6DB9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71E88-E636-4ABA-8E60-73684259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571F5-5E8B-4BAB-B1F0-B95EE1B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4CCAE-1D05-42DF-B280-140C4C2F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F14FA-7A78-48EA-9235-6D7AE35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DC395-84C9-47D6-B0B7-F7D3A0E6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F993C-78CD-4DD1-9763-74C02DF1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FFD54-CF35-42AE-AF3C-557E4E20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9020E-5D1F-41C5-8495-7C91CE59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F522E-40D3-4C16-84FB-793CCF81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68A-8055-45E8-A600-9B285DD5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71CDB-AC90-482F-8E53-9FF2E7B0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65CEC-3A37-48C6-8AC1-6173ACB0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8E0DD-7DC0-4DF5-8F6B-7DC8BE0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51798-793D-4B63-AF45-A098031B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28F8C-AD30-4074-9C2E-B073A661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CB4AA-D312-4441-A9FD-63D142FB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93921-3B0F-43A9-BE8A-19CA7623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7A099-50C0-4DE7-B578-FDF9318F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A2578-8C2F-44E0-ABC3-CA0BEF32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AB428-4B8F-4D0B-8E60-477173DB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D35-BE1B-4B66-BEE2-0B91C822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F0EEC-CE21-4A61-8C2F-C68BC54E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04B06-B885-4F86-B7F7-B3621392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5D8C6-589C-44E5-8359-2DDDD20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E52B5-E7A4-4B0D-B1E4-7920F74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E36D1-B724-41EF-94BF-13195FFE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70C0-2F3B-475D-A03B-32D7E4E6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16CA9-C68F-4988-9FA0-2BEF47A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D2099-0174-4691-9BAE-78137C6B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20B37-0086-4F94-8B3E-62584AE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CEA53-D3BB-4AA3-8B2D-F65137C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322A-0901-4BB3-A2CF-DFA4AD4D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C301F-278F-486A-89C4-F7D95EAC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A0B7E-FDD2-4455-8BDB-2D379F99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8FC94-EB9A-4D2B-AEC3-4918253F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71AA2-1792-4F1E-91B7-7C3A1BC9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90DEC-2A5B-4583-80A3-B39D16CA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A5184-7698-4C32-B582-24D1F32F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5FEF5-9BAA-4E28-8E9F-6CA07129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0962C-4C0F-4626-9500-F850188F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CA1A-52D5-4568-A016-882CF5FD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80B53-CA01-4434-A5DE-BEE70CFC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87B-91B7-4858-8C96-3184775B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168D2-470F-418A-85E9-1FFF21D4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9E169-8A23-4FF3-8308-0C2E789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15598-A9A4-479A-A1DB-9329988A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A9992-4B55-4F5E-ABD6-37A42ACB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88AD4-6F19-4CB1-AE1E-40CB5DA7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3C7E-E223-4636-A0A2-BAD42CED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639E-CB15-4DC6-B2FC-D52AB55D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35FD-5A46-4748-A628-D182DBD5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F542-DA6E-4056-839E-9D2DEBE2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EF2A-077C-4126-B808-E556A940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0A2-3231-445A-BF73-1EF45F86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9E78-42E4-4809-B606-D14511F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D21F-A607-43D0-94C0-49BA4843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748F-29A1-43EC-969F-8DE62630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93AE-5971-4FEB-A27E-B4E127A8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FD5-1B73-4724-9883-D4AF9383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D3BA-3E15-4741-9EFF-BE106B2E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59CC-D9B5-4FE8-AF70-60B21791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7ECC-A685-4587-A003-4B97BDFD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1E50-CE3D-41C3-B504-F7C8052B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3A9F-96F1-42F5-A814-6429FAE4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D1B-9A42-48C3-BE2C-2D1BDF7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B9A3-02E4-456A-8AAD-20CC9B0D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1D89-6A61-4E44-9077-FB2DE13E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4D4C-D76E-4049-AF1C-51679D9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DE84-2B89-45A2-8F2C-78B3A6E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8EEE-1244-4A80-B673-BFE9882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1037-064D-48D2-A323-EF4FDFA7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CE30-9E1E-4349-B728-0EE624FF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BDC6-6143-4448-8446-7A369052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CF28-9A9C-4F6A-A760-4EE8634F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7662-95CE-4F9A-9D2D-A9DDAA2B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985-34D1-4785-84DF-BEAA7843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E0C3-87E4-4B5C-92E3-0EC46388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0418-C9F0-4C38-BC62-965C88B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6F7A-6C13-43CC-91BC-E42265C3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EF1D-2655-443F-9456-CF1874D9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3914-F393-472E-99F0-2010253D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1537-210D-4852-B7B1-5B832DE3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4DC0-9978-4EBF-8D53-9073F226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2CF8-5828-4033-935B-371C279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2C41-3B72-4B5A-8A31-B69F472C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24B1A-27F7-4854-87B7-D00C5687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EF2-8ACF-4C74-890E-8A6A24E7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CB86-6098-40F1-A096-FBC827DB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2EEB-1566-41FE-A399-E8FB2C23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61033-1923-46FF-B7FD-9751471B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8829-E1F1-4CA5-8701-4286CD3C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1775-E5FC-464B-9F3D-81F902AC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24B8-4B0C-41E0-B3FB-3F71A6A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2F80-3741-4F2C-AE8B-A555D50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16A8-39A0-4665-B3EA-8D112C79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9A814-6895-4D20-8DA9-525A4B7A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62A23-8AD9-488E-8A1E-C3DEB958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4A0-F86B-46C6-B6B4-D187683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8BCA8-C45C-4632-A953-7861DF3E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7B9EE-C55E-4390-A1BD-A939C7F6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932A-0D4E-4B85-805D-2060BE99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CAFB9-D828-4F60-8AD1-641CACF1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A1ED6-0CC6-4906-B9B1-3DA781A4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022C9-8922-489F-859E-0FE590F4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9F1BF-7E9A-4EE1-BDAF-606C7519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24E72-E580-47B4-8AE1-247C327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4391C-151A-4095-8433-38E347E4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FD1DF-9798-4ABC-8614-087F812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2AA-C377-4DB9-A67D-3CF83C78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FB46-A412-4CB1-B556-689C475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F9CA-C776-4F48-9909-7B80C2C9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60B7B-97E6-4D30-9EEE-4B321ED9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01960-6C2A-43A3-9672-7EFD70BC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76AC-D2FA-4FEE-860E-5AE5C1A6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3F438-7AF1-422A-97D1-CB91C53D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7F86-3C94-44AC-A239-F7BC0B98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52F7-C781-4736-94F2-A795F748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0EC11-F3E0-4023-9A22-CF653ACE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565F9-B152-4B47-A4A5-67DB093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519-76E8-4B0A-9D48-2047FCF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F2382-7D96-4FC7-8427-417D82EE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38220-8C82-4D60-B859-5DCBB1C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2794C-E10A-4987-A730-C2338CE6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EF34-A686-447A-9188-59771185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30F9D-5370-475E-A062-87B8F0C4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A36BF-8A44-4D80-B593-442DC6DC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9F0C4-506E-43BC-867B-212DFF7D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4FD90-6599-4D1F-AA1F-00A35CC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6864F-2EDA-469F-9CF1-A7E30FD0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733CA-7F53-4D38-80A7-9648349A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CE3-89A9-4F50-9706-7EDA4D0F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AF8F1-8C42-4626-8C15-8CBFDD9B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6EFEF-D4D4-40A5-BE08-8EA9AB32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69131-9ADC-4CA9-964B-BF6FA76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4494C-EBE4-40CD-9CA8-928AECA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E9D83-8E25-47DC-9EC1-0719690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D917D-2DB6-48CA-A730-3E43721C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FE744-2F9B-4701-9F80-11ECCC0F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408FB-1C1B-4542-9BC6-9402D95D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2C430-D346-4AA6-B639-727C0BD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E1AD5-452B-495C-8D99-60522FF0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28FF-8DCD-4083-89FF-12E3AE672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EFFC-F760-4AD0-A25F-429071CB3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8805-72FE-4B10-B836-471447032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9D9F-BCC8-448D-813A-4AAEE56D3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462C-D107-4B4D-A715-524EB34F8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56C4-CE19-4E5C-9220-CC45D657A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CB26-B41D-46C0-BEDD-6972E0BE9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C306-2545-4C5C-B140-626A7F771C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CB71-6FD6-4A48-A42A-C8C7D6643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2977-A118-4213-A325-492A7E032C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5452-5BD4-49EF-994A-1A9AA6E7F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F59-50CB-4F65-8693-98B6F20AC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itle 1"/>
          <p:cNvSpPr/>
          <p:nvPr/>
        </p:nvSpPr>
        <p:spPr>
          <a:xfrm>
            <a:off x="1763640" y="24922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о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ана Сави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1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9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ризична 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кива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нал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натал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шћ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натал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1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АТАЛН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141300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тал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ск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чн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"/>
          <p:cNvSpPr/>
          <p:nvPr/>
        </p:nvSpPr>
        <p:spPr>
          <a:xfrm>
            <a:off x="539640" y="907920"/>
            <a:ext cx="7488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Биохемијски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-13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ова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нск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адотроп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фетопроте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FP/PAPP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т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ч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le “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.-18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FP), (hCG)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њугова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P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у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ал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в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зи су с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Down sy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642960" y="500040"/>
            <a:ext cx="82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а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с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ч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нхал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уценц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упљањ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њо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 у 10 недељи трудноћ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ватноћ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у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n s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324000" y="191628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2"/>
          <p:cNvSpPr/>
          <p:nvPr/>
        </p:nvSpPr>
        <p:spPr>
          <a:xfrm>
            <a:off x="324000" y="0"/>
            <a:ext cx="8820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псија</a:t>
            </a:r>
            <a:r>
              <a:rPr b="1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нских</a:t>
            </a:r>
            <a:r>
              <a:rPr b="1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пиц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доцентез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генетске анализе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у 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усне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не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лош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иоцентеза (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"/>
          <p:cNvSpPr/>
          <p:nvPr/>
        </p:nvSpPr>
        <p:spPr>
          <a:xfrm>
            <a:off x="611280" y="1052640"/>
            <a:ext cx="7777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о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4.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и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токографски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овањем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о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тоцинско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755640" y="981000"/>
            <a:ext cx="7777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ГЕНЕЗА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ј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ак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.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ј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и фактор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 период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формациј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рупциј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НО- ФЕТ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0" y="558972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34920" y="1428840"/>
            <a:ext cx="8066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ља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у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регулациј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кре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е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"/>
          <p:cNvSpPr/>
          <p:nvPr/>
        </p:nvSpPr>
        <p:spPr>
          <a:xfrm>
            <a:off x="755640" y="90792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а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та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ионској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ни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и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ци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1116000" y="404640"/>
            <a:ext cx="63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УТЕРУСНО- НОВОРОЂЕНЧ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250920" y="1844640"/>
            <a:ext cx="8535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ом се назива дете до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стања пупчане врпц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ћања на Т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стављања условних рефлекса на свим чулима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успостављања почетне адаптације организма на  спољашњу средин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 rot="10800000">
            <a:off x="868320" y="1426320"/>
            <a:ext cx="46080" cy="57240"/>
          </a:xfrm>
          <a:prstGeom prst="rect">
            <a:avLst/>
          </a:prstGeom>
          <a:noFill/>
          <a:ln w="0">
            <a:noFill/>
          </a:ln>
        </p:spPr>
        <p:txBody>
          <a:bodyPr tIns="11520" bIns="11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44ac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549000"/>
            <a:ext cx="7772400" cy="58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огиј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у и патологију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ршен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ј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наталн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парталн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натологиј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гиј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ворођенчета)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684360" y="1413000"/>
            <a:ext cx="8280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емено рођено (недонешено)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ђено пре пуних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терминско новорођенче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у термину (донешено)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.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ермина (пренешено)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42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1476360" y="549360"/>
            <a:ext cx="74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8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0" y="142884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е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yterm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ја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к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ач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а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с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мета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3"/>
          <p:cNvSpPr/>
          <p:nvPr/>
        </p:nvSpPr>
        <p:spPr>
          <a:xfrm>
            <a:off x="0" y="40464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НА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2"/>
          <p:cNvSpPr/>
          <p:nvPr/>
        </p:nvSpPr>
        <p:spPr>
          <a:xfrm>
            <a:off x="1403280" y="404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ЂАЊ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604800" y="1268280"/>
            <a:ext cx="73580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орађа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бух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е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ка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ј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о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емање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ом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у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емоционални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к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"/>
          <p:cNvSpPr/>
          <p:nvPr/>
        </p:nvSpPr>
        <p:spPr>
          <a:xfrm>
            <a:off x="992160" y="981000"/>
            <a:ext cx="7273800" cy="54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ЂАЊ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 на груди мајке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природне исхране (стварање, излучивање млека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ставља се контакт ``кожа на кожу``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е рађање постељиц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"/>
          <p:cNvSpPr/>
          <p:nvPr/>
        </p:nvSpPr>
        <p:spPr>
          <a:xfrm>
            <a:off x="250920" y="2428920"/>
            <a:ext cx="83217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Box 2"/>
          <p:cNvSpPr/>
          <p:nvPr/>
        </p:nvSpPr>
        <p:spPr>
          <a:xfrm>
            <a:off x="539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50920" y="2205000"/>
            <a:ext cx="1022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534960" y="1484280"/>
            <a:ext cx="784872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т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улз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к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сациј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че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мо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cm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е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500040" y="47628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1000080" y="1500120"/>
            <a:ext cx="728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с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абдом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рш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а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лн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928800" y="178596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а дужина пупчаника је око 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 дуг пупчаник може да пролабира испред предњачећег дела плода пре порођа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а боја пупчаника  је одређена плаво-црвеном нијансом крвних судова и светло-сивом бојом Вартонове пихтијасте мас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Box 2"/>
          <p:cNvSpPr/>
          <p:nvPr/>
        </p:nvSpPr>
        <p:spPr>
          <a:xfrm>
            <a:off x="1071720" y="4287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928800" y="1785960"/>
            <a:ext cx="80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2"/>
          <p:cNvSpPr/>
          <p:nvPr/>
        </p:nvSpPr>
        <p:spPr>
          <a:xfrm>
            <a:off x="1071720" y="42876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пупчан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Box 3"/>
          <p:cNvSpPr/>
          <p:nvPr/>
        </p:nvSpPr>
        <p:spPr>
          <a:xfrm>
            <a:off x="428760" y="1341360"/>
            <a:ext cx="864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 постоје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артер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3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умбиликална ве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2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само једне пупчане артериј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аномалије урогениталног трак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рдиоваскулар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зи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м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Box 2"/>
          <p:cNvSpPr/>
          <p:nvPr/>
        </p:nvSpPr>
        <p:spPr>
          <a:xfrm>
            <a:off x="1071720" y="476280"/>
            <a:ext cx="77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ља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428760" y="1700280"/>
            <a:ext cx="7643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п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уш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-15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 c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ушен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љак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љубичаст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озел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 патрља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 постојања проблема са пупчаником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ност спонтаног ``отпадања`` након првих 10 дана од рође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в траг на пел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аво- крвав садржај који цури из пупчане ране након ``отпадања``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јање ткива у дну пупчане ра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914400" y="333000"/>
            <a:ext cx="777240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рођено новорођенч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ше</a:t>
            </a:r>
            <a:r>
              <a:rPr b="0" lang="sr-C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откуцаје срц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сације пупчане врпце / јасне покрете вољних мишић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2"/>
          <p:cNvSpPr/>
          <p:nvPr/>
        </p:nvSpPr>
        <p:spPr>
          <a:xfrm>
            <a:off x="611280" y="620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 патрљак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norrhoea umbilic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oma umbilic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шта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љенск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вршће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љц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 још у порођајној са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љан у простору за новорођенч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минути могу да одреде квалитет будућег живота детета 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674640" y="47628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28760" y="185724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л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зивањ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yterm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-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дентификациони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упак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1428840" y="45720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ц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ло), зб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826920" y="620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TextBox 2"/>
          <p:cNvSpPr/>
          <p:nvPr/>
        </p:nvSpPr>
        <p:spPr>
          <a:xfrm>
            <a:off x="755640" y="642960"/>
            <a:ext cx="767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1071720" y="1214280"/>
            <a:ext cx="750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љ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ци наруквиц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 ск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њ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ацијска старо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формациј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њак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ус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у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антропометриј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00040" y="1428480"/>
            <a:ext cx="75722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Вирџинији Апг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р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пулмонал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к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лност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ИЈ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г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вк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фиктичног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"/>
          <p:cNvSpPr/>
          <p:nvPr/>
        </p:nvSpPr>
        <p:spPr>
          <a:xfrm>
            <a:off x="395280" y="26028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кож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с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а радњ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асирање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ажљивост  катетеро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ост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и тон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пирације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 дисањ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684360" y="210960"/>
          <a:ext cx="7704000" cy="5234040"/>
        </p:xfrm>
        <a:graphic>
          <a:graphicData uri="http://schemas.openxmlformats.org/drawingml/2006/table">
            <a:tbl>
              <a:tblPr/>
              <a:tblGrid>
                <a:gridCol w="1066680"/>
                <a:gridCol w="2074680"/>
                <a:gridCol w="1521000"/>
                <a:gridCol w="1520640"/>
                <a:gridCol w="1521000"/>
              </a:tblGrid>
              <a:tr h="52740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marL="1052640" algn="ctr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3160"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ект (боја кож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3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 бл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роцијан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жич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3160"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3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лс (срчана фреквен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су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/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/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3520"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3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масирање (реакција на катете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мас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3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шље, кија, брани 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09520"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 (тонус мускулатур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3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емена флексија екстремит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и покр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0240"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3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спирације (дисајни покр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3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и, нерегулар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ажни, плач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2"/>
          <p:cNvSpPr/>
          <p:nvPr/>
        </p:nvSpPr>
        <p:spPr>
          <a:xfrm>
            <a:off x="611280" y="573264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ела је преузета из Националног водича за основно и специјализовано збрињавање новорођенчета (Драгомир ранковић, Апгар скор. У: Јанковић Б,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</a:t>
            </a:r>
            <a:r>
              <a:rPr b="0" i="1" lang="sr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ционални водич за основно и специјализовано збрињавање новорођенчета, Београд: Институт за здравствену заштиту мајке и детета Србије „Др Вукан Чупић“, 2010: 51-4).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"/>
          <p:cNvSpPr/>
          <p:nvPr/>
        </p:nvSpPr>
        <p:spPr>
          <a:xfrm>
            <a:off x="900000" y="620640"/>
            <a:ext cx="76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виталних функ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 депресија виталних функција (живот новорођенчета је угрожен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7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ањи степен депресије виталних функ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 10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лне функције новорођенчета су добр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"/>
          <p:cNvSpPr/>
          <p:nvPr/>
        </p:nvSpPr>
        <p:spPr>
          <a:xfrm>
            <a:off x="1116000" y="692280"/>
            <a:ext cx="653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7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хтева процену сваких 5 минута, док 2 узастопна скора не буду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аксимално до 20- ог минута живот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лно угрожено новорођенче мора да се реанимира и пре процене АС у 1 минут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о би се успоставиле и одржале виталне функциј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1324440" y="1052640"/>
            <a:ext cx="5686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е мер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 2500- 42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~ 34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Д 52±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±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К = ПОТ; 1-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творођ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ај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ђ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ај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ш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"/>
          <p:cNvSpPr/>
          <p:nvPr/>
        </p:nvSpPr>
        <p:spPr>
          <a:xfrm>
            <a:off x="826920" y="907920"/>
            <a:ext cx="72010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е ме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3- 5 дана изгуби 7% ПТМ  (највише 1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онију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ир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јем 2- генедеље достигне ПТ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826920" y="1052640"/>
            <a:ext cx="7632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е ме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00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љ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и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0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ич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826920" y="981000"/>
            <a:ext cx="756144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е мер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к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 се мер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аним санти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еним 0,5 цм изнад горње ивице обрва и ушних шкољки и преко најширег дела окципиталне кост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"/>
          <p:cNvSpPr/>
          <p:nvPr/>
        </p:nvSpPr>
        <p:spPr>
          <a:xfrm>
            <a:off x="214200" y="-500040"/>
            <a:ext cx="8215560" cy="76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постављање и одржавање пролазности дисајних путев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о се уклања аспирацијом слуз /крв из усне шупљине и носних ход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: Снажна сукција у пределу задњег фарингса може довести до брадикардије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ка аспирациј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онијал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т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имиран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0" y="260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"/>
          <p:cNvSpPr/>
          <p:nvPr/>
        </p:nvSpPr>
        <p:spPr>
          <a:xfrm>
            <a:off x="685800" y="1700280"/>
            <a:ext cx="80722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збедити оптималну телесну температур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ШИ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м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ен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 се у топлу пелену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а температура просторије 26- 2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76500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900000" y="1125360"/>
            <a:ext cx="73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жавање терморегулације..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озн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икс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rnix caseosa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а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живач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инфективн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 дана се осуши и спонтано отпа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3"/>
          <p:cNvSpPr/>
          <p:nvPr/>
        </p:nvSpPr>
        <p:spPr>
          <a:xfrm>
            <a:off x="395280" y="1268280"/>
            <a:ext cx="87487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офталм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е се очи новорођенчт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пава се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бро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ромицин /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дон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циклин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крварењ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љк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септико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357120" y="35712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395280" y="620640"/>
            <a:ext cx="84247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лни преглед у периоду 6- 12 сати од рођ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ја: проти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a B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 до 4 сата по рођењ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G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- пред отпус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ад </a:t>
            </a:r>
            <a:r>
              <a:rPr b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s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их мајки се вакцинишу једном дозом вакцине и штите  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im hepatitis B imunoglobulino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"/>
          <p:cNvSpPr/>
          <p:nvPr/>
        </p:nvSpPr>
        <p:spPr>
          <a:xfrm>
            <a:off x="324000" y="182520"/>
            <a:ext cx="83516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а новорођенчето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тесто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откривање фенилкетонуриј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откривање хипотиреоз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на прематурну ретинопатију превремено рођеног детет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слух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"/>
          <p:cNvSpPr/>
          <p:nvPr/>
        </p:nvSpPr>
        <p:spPr>
          <a:xfrm>
            <a:off x="826920" y="404640"/>
            <a:ext cx="79218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пољашње (екстраутерусне) услове живо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о вре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исање- неколико мину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рвоток- око 24 са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лучивање билирубина (индиректна хипербилирубинемија)- неколико да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ункцију бубрега- неколико недељ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ке метаболичке поремећаје- неколико месец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95280" y="333000"/>
            <a:ext cx="864072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ач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шен мање од 28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сле одвајања од тела мајке није показивао знаке жив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побачаја не попуњава се ни Пријава рођења ни Потврда смр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пољашње (екстраутерусне) услове 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п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ет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цим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ијањ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зањ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биликал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лађ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циоцептивн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јациј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х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ањ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ти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наж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ирију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затворен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тис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"/>
          <p:cNvSpPr/>
          <p:nvPr/>
        </p:nvSpPr>
        <p:spPr>
          <a:xfrm>
            <a:off x="468360" y="836640"/>
            <a:ext cx="80643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А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и услови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уде истиснута течност која испуњава плућа интраутерусно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алвеоле трајно испуне ваздухом- део ваздуха остаје у њима и након максималног експиријум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роток кроз плућа повећа 6- 10 пута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ан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волумен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-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дисајни центри преузму своју функциј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7d6ff"/>
                </a:solidFill>
                <a:latin typeface="Arial Narrow"/>
              </a:rPr>
              <a:t> </a:t>
            </a:r>
            <a:br>
              <a:rPr sz="32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А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љујући сурфактанту из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ску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ДУАЛН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 (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к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ГУЛАРНО -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ањ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веол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орм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аздуш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ј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пулмоналн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Ј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ах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ив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у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F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м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у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веол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ларн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а мате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зависи од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 пнеумоцит типа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ендотела крвних капил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роте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пиди и протеи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.-26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азревањем пнеумоцита типа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љн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4 -36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ћав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апс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веол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иријуму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дуално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ац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семија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доза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у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у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фактанта</a:t>
            </a:r>
            <a:r>
              <a:rPr b="1" lang="hr-HR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2771640" y="650880"/>
            <a:ext cx="32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фактан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611280" y="692280"/>
            <a:ext cx="7707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циркулациј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о плод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 крви 50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5/35mmH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F  (160g/l)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ћи афинитет за О2 од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/>
          <p:cNvSpPr/>
          <p:nvPr/>
        </p:nvSpPr>
        <p:spPr>
          <a:xfrm>
            <a:off x="611280" y="765000"/>
            <a:ext cx="727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циркула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нута циркулациј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а- носи оксигенисану кр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е- враћају крв у плацен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генисана крв у умбиликлној вен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O2 8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2 30- 35 mmH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900000" y="612720"/>
            <a:ext cx="76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циркула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еласка кроз предњи трбушни зид, оксигенисана крв из умбиликалне вен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 одлази у јетру и спаја се 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porte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акле улази у јетрин крво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м делом, прек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venosus Arantii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лази у доњу шупљу вену (ДШВ) где се меша са неоксигенисаном крвљу из ДЕ и абдом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ази до потпуног мешања – 2 одвојена пута/исти к.су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из ДШВ долази у десну преткомору (ДП) срц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"/>
          <p:cNvSpPr/>
          <p:nvPr/>
        </p:nvSpPr>
        <p:spPr>
          <a:xfrm>
            <a:off x="539640" y="61272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циркула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П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 оксигенисани део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A→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→асцендентну аор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2 су добро опскрбљени мозак  и Г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 оксигенисани део→ДК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цендентна аорта (прек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2 су слабије опскрбљени абдомен и Д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O2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 55%, ДЕ 35%,...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 јетре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O2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8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"/>
          <p:cNvSpPr/>
          <p:nvPr/>
        </p:nvSpPr>
        <p:spPr>
          <a:xfrm>
            <a:off x="730080" y="260280"/>
            <a:ext cx="748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циркула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у левој ½ срца је богатија О2 од десне ½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ци су у обе половине срца изједначен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абдоминалне аорте- преко умбиликалних артерија крв се враћа у постељиц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о постоје 2 комуникациј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A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"/>
          <p:cNvSpPr/>
          <p:nvPr/>
        </p:nvSpPr>
        <p:spPr>
          <a:xfrm>
            <a:off x="755640" y="487440"/>
            <a:ext cx="784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циркула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о срц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олошки:мало миофибрила, доста везивног тки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: ↓ комплијансу, лако толерише промену волумена и притис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еталну плућну циркулацију утич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и притисак: плућа испуњена течношћ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олошки: мали број крвних судова, дебљег мишићног зид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: активан тонус к.суд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.васк.резистенц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V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проток- око 1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а са гестациј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68000" y="-171720"/>
            <a:ext cx="8496360" cy="65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наталн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рл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0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рођен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о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1" lang="vi-V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р</a:t>
            </a:r>
            <a:r>
              <a:rPr b="0" lang="vi-V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творођен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vi-V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рођен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2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рл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0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1"/>
          <p:cNvSpPr/>
          <p:nvPr/>
        </p:nvSpPr>
        <p:spPr>
          <a:xfrm>
            <a:off x="684360" y="21420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TextBox 2"/>
          <p:cNvSpPr/>
          <p:nvPr/>
        </p:nvSpPr>
        <p:spPr>
          <a:xfrm>
            <a:off x="307800" y="1341360"/>
            <a:ext cx="8429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а циркулациј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на КВС настају збо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ту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ључ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кула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ве респирације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4398120" y="31989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"/>
          <p:cNvSpPr/>
          <p:nvPr/>
        </p:nvSpPr>
        <p:spPr>
          <a:xfrm>
            <a:off x="684360" y="-741240"/>
            <a:ext cx="72723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Ф-П циркулације- ↑нагомилавањ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2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рвим плачом шире се алвеоле, па и цела плућа- успоставља се плућна циркула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и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иње да тече кроз плућне к.с., а престаје да тече у аорту кро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arteriosu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биликал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ис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азила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"/>
          <p:cNvSpPr/>
          <p:nvPr/>
        </p:nvSpPr>
        <p:spPr>
          <a:xfrm>
            <a:off x="755640" y="920880"/>
            <a:ext cx="7993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Ф-П циркулације- из пупч.вене не долази крв у доњу шупљу вену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 количина крви доспева у Д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ва се притисак крви у ДП тј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ц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ар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ног отвора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amen ovale) 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.-10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"/>
          <p:cNvSpPr/>
          <p:nvPr/>
        </p:nvSpPr>
        <p:spPr>
          <a:xfrm>
            <a:off x="900000" y="434880"/>
            <a:ext cx="712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ЦИРКУЛАТО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о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ktus arteriosus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терише и поста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mentum arterio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облитерише и поста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mentum teres hepat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venosus Arantii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облитерише и поста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mentum veno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е артерије поста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ligamentum umbilicale late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7d6ff"/>
                </a:solidFill>
                <a:latin typeface="Arial Narrow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РЕГУЛА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786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ог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б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ревањ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регул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 оптималну телесну температур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тер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е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новорођенчет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-36,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лар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-37,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ној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еве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1-34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ОСТ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вено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- у транспортном инкубатор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- на инфрацрвеном столу (сто за реанимациј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755640" y="981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ЧК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68360" y="1844640"/>
            <a:ext cx="820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ора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љ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егулац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зов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и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едитар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опат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1"/>
          <p:cNvSpPr/>
          <p:nvPr/>
        </p:nvSpPr>
        <p:spPr>
          <a:xfrm>
            <a:off x="539640" y="260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142920" y="1125360"/>
            <a:ext cx="90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л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ах након рођења, а до наредне може проћи 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м проценту прва микција ј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-48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 по рође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- често садржи веће количине кристала урата- боји пелену црвенкасто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"/>
          <p:cNvSpPr/>
          <p:nvPr/>
        </p:nvSpPr>
        <p:spPr>
          <a:xfrm>
            <a:off x="324000" y="620640"/>
            <a:ext cx="856908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ска филтра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концентровањ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 толеранција новорођенчета на дехидратациј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 НН могу да концентрују око 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m/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што је 2-3 пута мање него код одрасл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а диуреза, за чишћење бубрежно- електролитног оптерећења је 2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k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/ са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Д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1"/>
          <p:cNvSpPr/>
          <p:nvPr/>
        </p:nvSpPr>
        <p:spPr>
          <a:xfrm>
            <a:off x="320760" y="63828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А  АДАПТ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Box 2"/>
          <p:cNvSpPr/>
          <p:nvPr/>
        </p:nvSpPr>
        <p:spPr>
          <a:xfrm>
            <a:off x="214200" y="1773360"/>
            <a:ext cx="86788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ге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ионс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ЕВ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он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изостане потребно је детаљно испитивањ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"/>
          <p:cNvSpPr/>
          <p:nvPr/>
        </p:nvSpPr>
        <p:spPr>
          <a:xfrm>
            <a:off x="611280" y="758880"/>
            <a:ext cx="7705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А  АДАПТ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е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а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ргит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53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г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4360" y="141300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а и неонатална смртност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као последиц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еменог рођењ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 ПТ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х конгениталних малформациј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 која настају због компликација током порођаја → немогућност прилагођавања на екстраутерусни жив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предузетих после рођења која доводе до инфек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2"/>
          <p:cNvSpPr/>
          <p:nvPr/>
        </p:nvSpPr>
        <p:spPr>
          <a:xfrm>
            <a:off x="1908000" y="476280"/>
            <a:ext cx="55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АДИЈАЛ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611280" y="116064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ђењу и првих дана смењују се периоди будности и сна- у почетку ирегуларно, а касније добија правилан рита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зо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611280" y="981000"/>
            <a:ext cx="806436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СКА АДАПТАЦИЈ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ђена имуност чини прву линију одбране од продора микрооргам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е баријере-кожа и слузоко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и биохемијски инхибитор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а фл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"/>
          <p:cNvSpPr/>
          <p:nvPr/>
        </p:nvSpPr>
        <p:spPr>
          <a:xfrm>
            <a:off x="539640" y="687240"/>
            <a:ext cx="799308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СКА АДАПТАЦИЈ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амнионске течности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шан је продор микроорганизм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ј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кробни протеин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ептид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icrobial proteins and peptide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738360" y="260280"/>
            <a:ext cx="79372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СКА АДАПТАЦИЈ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ик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nix caseo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од дејством плацентарних хормона и обезбеђује заштиту коже плода и превремено рођене дец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 недеље гестације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баријера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APP“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нати слој коже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um corneum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езрео код новорођенчади и период његовог сазревања детерминисан је гестацијском зрелошћу новорођенч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недеље гестације - 2 недеље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 недеље гестације - 8 недељ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"/>
          <p:cNvSpPr/>
          <p:nvPr/>
        </p:nvSpPr>
        <p:spPr>
          <a:xfrm>
            <a:off x="539640" y="189000"/>
            <a:ext cx="77774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СКА АДАПТАЦИЈ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густина фоликула длаке новорођенчет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деалан резервоар за бактерије које колонизују кожу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epidermid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ница интестиналног тракт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рвог дана рођења почиње успостављање нормалне микрофлоре слузниц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ИТ-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ница респираторног тракт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у улогу нарушав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сурфактанта (дефицит протеина А и Д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а продукција муку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убација и механичка вентилациј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њен мукоцилијарни клиренс и иритација дисајних путе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а референтна тачка за нормалну трудноћу  износ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 дана тј 40 недеља гестационе старости тј 9 месе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 (превремени)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37 недељ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ан (термински)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- 42 недељ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есени (посттермински)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42. недељ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1:05Z</dcterms:created>
  <dc:creator>Jasmina</dc:creator>
  <dc:description/>
  <dc:language>en-US</dc:language>
  <cp:lastModifiedBy>Miki</cp:lastModifiedBy>
  <dcterms:modified xsi:type="dcterms:W3CDTF">2020-09-29T17:24:49Z</dcterms:modified>
  <cp:revision>859</cp:revision>
  <dc:subject/>
  <dc:title>NOVOROĐENČE</dc:title>
</cp:coreProperties>
</file>