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402E-582E-4713-9E49-8A130DD3F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EB46-F826-46E4-9C38-EAA635380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29C7-BE39-4C68-BFA5-FBD229187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AA91-46F5-4A52-A961-0F5A450F4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5CE4-41D5-4635-A591-E68080B89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85E5-1C18-4B41-9243-6C8378EEC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1817-688E-4E8C-9328-A3C823D3D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E0C6-5E93-4190-87FA-3C4B46869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C0F8-4C99-4F96-BBDB-CE0CB408A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2D15-410E-4028-81E8-C29F3482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9B02-C756-4DAA-8E08-A3C901AF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9326-5129-4718-AEB4-1C5DD830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371EA-76ED-4B4F-8E6C-31A96BB2DE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20574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ођајне повреде новорођенче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1"/>
          <p:cNvSpPr/>
          <p:nvPr/>
        </p:nvSpPr>
        <p:spPr>
          <a:xfrm>
            <a:off x="12600" y="685800"/>
            <a:ext cx="3568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ВЕРЗИТЕТ У КРАГУЈЕВЦ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УЛТЕТ МЕДИЦИНСКИХ НАУ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5527800" y="679320"/>
            <a:ext cx="2908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ITY OF KRAGUJEV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ULTY OF MEDICAL SCI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8" descr="http://www.volonterskicentarkg.org/wp-content/uploads/2011/02/MEDFKG-181x3002.jpg"/>
          <p:cNvPicPr/>
          <p:nvPr/>
        </p:nvPicPr>
        <p:blipFill>
          <a:blip r:embed="rId1"/>
          <a:stretch/>
        </p:blipFill>
        <p:spPr>
          <a:xfrm>
            <a:off x="3809880" y="539640"/>
            <a:ext cx="1081080" cy="9730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ц др Драгана Сави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еде главе- лиц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8088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araliza n.facialis-a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ица повреде (форцепс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лизована страна- мека, пуна, без назолабијалне бразде, угао усана се при плачу помера на здраву сран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а специфичног лечењ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лавом се спонтано опоравља за неколико недеља или месец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рактуре костију лица 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тевају хируршки третман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еде главе- лиц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ци- едем, суфузије и екхимоз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ица притиска кроз порођајне канале / акушерским интервенција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лазе за неколико да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коњуктивална крварењ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то у некомпликованом порођају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орбује се за 1- 2 недељ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њни мишићи ок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ректно или повредом кранијалних нера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ица- фиброз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еде главе- уш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разије и екхимозе –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зик од инфекциј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атоми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ују с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оде до малформација ушне шкољк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церациј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еде врата и рамен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актура кључне кост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чно комплет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је при порођају са манипулацијама око рамена или рук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ивни покрети су болни, Моро рефлекс некомплетан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екад се примети тек формиран калу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пија: имобилизација руке уз тело, са флексиојм у лакт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аста за пар месец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еде врата и рамен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049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лиза брахијалног сплет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l.brachiali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вата мишиће ГЕ, услед трауме 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тног до 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акалног спиналног нер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лични порођај, при манипулација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је 3 облика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b-Duchenne-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а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тећење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5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umpke-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8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ума и горње и доње гране (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1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и код повреде горње гране -  рука је адукована,  у унутрашњој ротацији и пронациј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и код повреде доње гране -  парализа флексора ручја и прстију,  рефлекс хватања угашен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еде врата и рамен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лза </a:t>
            </a:r>
            <a:r>
              <a:rPr b="1" lang="nb-N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phrenicus-a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карличном порођају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и: цијаноза и нерегуларно дисање, до тахипена или апне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тг: издигнута хемидијафрагма, са померањем медијастинума на здраву стран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а: неспецифична. Позиционо лежање на болесној стран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еде врата и рамен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еда </a:t>
            </a:r>
            <a:r>
              <a:rPr b="1" lang="nb-N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.sternocleidomastoideus-a</a:t>
            </a:r>
            <a:r>
              <a:rPr b="0" lang="nb-N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орођају хиперекстензија миш.влакана и крварење . Хематом се брзо створи и организу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и: лош положај врата се уочава тек за 10- 15 дана, може на рођењ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мефакција се повећава првих 2- 4 недеље, затим се смањује и нестаје за 2месец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а: физикалн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еде кичме и кичмене мождин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тко се дијагностикују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је при лонгитудиналној тракциј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икује се у комбинацији са торзијом и флексијом кичменог стуб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и као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ртворођеност /смрт за неколико сати (лезија је високо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лико сати након рођења знаци РД који прогредирају до фаталног исхода или парализе екстремитета, ретенције урина, опстипације (лезија горњи и средњи цервикални регион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лезиј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1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парализе, на рођењу или касниј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кретни знаци спастичности – искључити постојање фрактур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еде интаабдоминалних орган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тк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умњати увек код шокног стања НН са дистензијом абдомена и бледилом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птура јетре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: крупног плода са хепатомегалијом, карлични порођај, прематуритет, постматуритет, асфиксија, болести коагулациј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и: првих (максим. 7 дана) НН је добро, затим се јављају знаци скривеног крварењ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птура слезин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: спленомегалије уз карличну презентацију, поремећај коагулације, велики плод,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и: знаци слични као код руптуре јетр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еде интаабдоминалних орган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орагија надбубрежних жлезда: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шћа него што се то сумњ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иологија: претходно помену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а слика зависи од обима хемораг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.налаз: хипертермија, тахипнеа, жутица цијаноза, присуство масе у лумб.регији са измењеном бојом кож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рварење указује: слабо узимање оброка, повраћање, дијареа, опстипација, дехидрација, дистензија абдомена, иритабилност, хипогликемија, уремија, раш по кожи, млитавост, конвулзије, шок и ком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тг : евентуална дислокација орган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ХО абдомена: маса у пределу надбубрега испуњена садржаје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а: симптоматска / хируршк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53352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хватају</a:t>
            </a: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вреде настале током рађањ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 се или не могу избећ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бухватају </a:t>
            </a: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еде фетуса при амниоцентези, интраутерусној трансфузији, .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еде екстремитет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ktura humerusa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тракција са ротацијом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нема дислокације, открива се тек са појавом калус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ktura femura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карличног положаја са исправљеном ножиц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ксације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еома ретк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вајање епифизе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ретк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ог дана од рођења запажа се оток меких ткива око зглобо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алпацији чујне крепитациј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тећење периферних нерава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ретк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еде гениталиј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је уобичајен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ротум и велике усне могу бити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ематозни, са екхимозама и хематомим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бог притиска на чврсте коштане структуре, могућа је траума уретр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бље структуре гениталија рето су захваћен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3808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испноирајући фактори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розоми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турит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фалопелвичн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ропор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лонгирано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ођа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тоција (абнормалана величина и положај фетус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нормална презента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80880" y="60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 бити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тентне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очетку незнатне, али да се развијају нагло и да брзо прогредијарј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дају повреде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ких ткив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та и рамен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чме и кичмене можди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аабдоминалних орга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еде меких тки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8088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итеми / ерозије -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кефалопелвичне диспропорције или примене вакуума, форцепса, 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лазе брзо спонта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и ризик од инфекциј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ехије -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ју због пораста интраторакалног притиска и венског притиска при проласку г.к. кроз порођајни кана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лазе за 2- 3 да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ко је пупчаник обмотан око врата, петехије само изнад места притиска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еде меких тки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химоз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уматског и карличног порођа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нтано пролазе за месец дан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ивне- могу довести до анемије, хемораг.шока, хипербилирубинем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кутана масна некроз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а, тврда лезија коже и везивног ткив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зија је на месту траум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очава се крајем 1- ве недеље, чак и после 6 недељ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хтева лечење, размекшава за 6 недеља, а пролази до 6 месец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церациј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ју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циденталн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лучају јачих крварења- направити сутуру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еде главе- поглавин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ut Succedane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ки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кив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њачеће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ођај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кутано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љањ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гвинозно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уид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т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иц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тиј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вов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бањ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Н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лаз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иц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тур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то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ћен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ехијам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химоза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тај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и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тим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им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ођа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орбуј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ш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еде главе- поглавин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фалхематом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phalhaemathom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периостн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екциј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на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т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л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птуро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но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а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ад н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лаз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иц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тур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очљи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уктуи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на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ијеталн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ти, ређе окципиталн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н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ј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ж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ћуј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3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та, пролази за 2 недеље до 3 месец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циденц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0.2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.5%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рођен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ц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лечи се, не пунктир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 се последице: анемија, жутиц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8-29T11:55:12Z</dcterms:created>
  <dc:creator>Miki</dc:creator>
  <dc:description/>
  <dc:language>en-US</dc:language>
  <cp:lastModifiedBy>Miki</cp:lastModifiedBy>
  <dcterms:modified xsi:type="dcterms:W3CDTF">2020-09-29T15:12:46Z</dcterms:modified>
  <cp:revision>36</cp:revision>
  <dc:subject/>
  <dc:title>доц др Драгана Савић</dc:title>
</cp:coreProperties>
</file>