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D5C-440C-492E-8178-5EF0A1AD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E2EF-49C8-45F4-BC55-D0757548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4EC-9552-48C7-A162-9D893B91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CBF-BC0A-4E2C-8095-F6886FE7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85E-1D39-4F49-AA9E-BFE3642A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1F49-EE52-4677-A65F-CB98184C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7AA-F426-408C-95AD-3BAB9577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E06-8B62-4D0C-B3F4-76A185B8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C68-70E2-47BD-9F8A-9B2D16C5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BCB-4CC7-48E2-B8A0-2EC15EB2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10D-E8FB-4E6E-BB17-58584FE4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791-C059-45A9-8CA5-B15FBE43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5C87-DB54-4A8B-B3EB-D88A22691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5240" y="2590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лни преглед новорођеног детета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43" name="Subtitle 2"/>
          <p:cNvSpPr/>
          <p:nvPr/>
        </p:nvSpPr>
        <p:spPr>
          <a:xfrm>
            <a:off x="2987640" y="5013360"/>
            <a:ext cx="571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ана Сав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12600" y="685800"/>
            <a:ext cx="356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ЗИТЕТ У КРАГУЈЕВ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ТЕТ МЕДИЦИНСКИХ НАУ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527800" y="679320"/>
            <a:ext cx="290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ULTY OF MED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Г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3840" y="1285560"/>
            <a:ext cx="8929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голс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љ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ноплава / сивкасто-модикас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љ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х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нз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мбосакралн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еус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0%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ијског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ричк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ја прве године обично избл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кута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о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кож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ђ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еу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та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лач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з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наталн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фиксиј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40772286.wav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Verdana"/>
              </a:rPr>
              <a:t>ГЛА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400" y="837720"/>
            <a:ext cx="89359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тане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њ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боид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x1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x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 – 2,5x2,5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ал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ијетал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в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пац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а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-18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танел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њ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ципитал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ијетал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ор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25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мал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а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Verdana"/>
              </a:rPr>
              <a:t>ГЛ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алпацији фонтанела обавезно треба палпирати и коронарни, сагитални и ламбдоидни ша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зи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ур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ањск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-6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оре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у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моделир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ком порођа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ниосиностоза може и да заустави раст лобање – онемогућава и раст можданих структу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706320" y="2514600"/>
            <a:ext cx="670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85C02302.wav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шки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а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57200" y="1500120"/>
            <a:ext cx="830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стањ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сто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ур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ихоцефал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итал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сто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хицефали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р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сто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верзал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гиоцефали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сто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у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ор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о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ј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кантус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ак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елориза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о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ен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н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љк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цеп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ан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ц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плазиј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ин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facial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њуктивал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та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лач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н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укокори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ш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рак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иоретинити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ук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ормал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јај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е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фоб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трук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римал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латарал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з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з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изонтал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голоид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монголоид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ија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и очију нису координиса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395280" y="333360"/>
            <a:ext cx="87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цефал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њ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к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нгиоми тзв. “Родин угриз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латир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циј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л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ра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ривље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лока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скавиц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идир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.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, седласт нос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и алкохол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ондроплазија, велики но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изомија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ези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ан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ључу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ирањ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гастрич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-360" y="-36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стом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стом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tein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л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љив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и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д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та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зи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глос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ироидиз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ополисахаридоз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 s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салива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ез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ња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тија, микротија, макротија, асиметр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них шкољ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генезија спољашњег ушног кана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20640" y="762120"/>
            <a:ext cx="7696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ле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ача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они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н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њ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патиј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нитал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нормално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кту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реоглос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ич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еригију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нитал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840" y="1341000"/>
            <a:ext cx="8462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метрич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а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а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љи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ифоид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а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упањ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ctus carinatus 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кокошије гру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ctus excavatum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кас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ctus infundibulare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убљ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ч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миопат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инфл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уж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фиктич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акал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оф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14400" y="380520"/>
            <a:ext cx="914400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ључе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нитал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ља се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л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6-28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°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в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ача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-1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њу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лог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жичас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тич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емир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ч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с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ука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т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тр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и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тодермал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лаз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рофија дојк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бљање жлезданог ткива, са/ без ото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јача реакција 8- 10 д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вати притиса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ација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itis 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ције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-20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ључив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ал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фрагмалн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0-60/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скултаторно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љ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кулар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рич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рат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шње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erman Scor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амо у случају Р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х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иц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ну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з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ктус срца на десној стра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стропози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а, тензиони пнеумоторак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вострана дијафрагмална херн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40±20/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ерис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180/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дикард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100/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нитал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ноичн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з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1142640"/>
            <a:ext cx="8750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склутација срца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еви и десни) 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ктус и аксиле су места најбоље аускултаторне презентације срчаних тон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тон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нолитан, јасан и снажа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ентов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аше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е се чује на икту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тон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јбоље чујан на линији која пролази кроз горњу ивиц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ну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 удвојености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CS" sz="24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езија аорте, пулмонал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езија, јединстве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ски трункус или транспозиција великих крвних судо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ашен друг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ПХ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ов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чест нала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</a:t>
            </a:r>
            <a:r>
              <a:rPr b="0" lang="sr-Latn-CS" sz="24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рају током читаве систоле, благ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интентензитета, не пропагирају се и не доводе до хемодинамс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1142640"/>
            <a:ext cx="8291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пација периферних пулсева –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АН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о прегледа новорођенчет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 пулса на доњим екстремитетим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ује на коарктацију аор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 пуњен пулс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да буде последица хипоплазије левог срца и стенозе аорте али чешће је знак хиповолемије, хипотензије и шокног стањ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изузетно мери при првом прегледу новорођенчета. При томе се мора водити рачуна да манжетна покрива 2/3 надлактице или надколенице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ас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-90/3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H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ДОМ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но по рођењу абдомен је испод равни грудног кош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доминални органи се лако палпирај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ром ваздуха у ГИТ - ниво абдомена се поди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пи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оклавикуларн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т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з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ерал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пир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њ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ДОМЕ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г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ендир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пиријум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а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у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ер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буш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љи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теж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шк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ну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бу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патологиј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стинал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оденална стено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јафрагмал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р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енз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ита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а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лаз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дом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u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гакол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ци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умоперитонеу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ДОМ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ево новорођенчета испуњено је црно – зеленом, лепљивом, жилавом безмирисном масом- МЕКОНИЈУ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 се излучи у првих 12 с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изостане за 24 сата – потребна је додатна дијагност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ГЕНИТАЛН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пир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њ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ок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пациј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ш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сну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м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латерал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роф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нефро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цистич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ла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атерал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роф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нтил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цистич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ш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пи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а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дус палпабилан чак до умбилику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ГЕНИТАЛН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итал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нтил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чац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мо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спад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ормал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оту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а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хидрокеле.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спадија + ретенција тестиса- поремећај диференцијације пола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орције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6760" y="1412640"/>
            <a:ext cx="85359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4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е те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асл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глас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дибу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ј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љка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дом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пч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билик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емите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флекс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и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и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па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асл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ГЕНИТАЛН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јчиц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ив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 дана присутан беличаст до сукрвичав секрет- последица дејства мајчиних хормо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а појава- атрезија химе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ЧМЕНИ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928800"/>
            <a:ext cx="83181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новорођенчета кичмени стуб је прав и нема физиолошких кривин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нитална сколиоза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ја леве и десне половине леђа с абнормалном кривином кичменог стуб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611280" y="4581360"/>
            <a:ext cx="554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759120" y="55292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9640" y="4221000"/>
            <a:ext cx="860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8920" y="151920"/>
            <a:ext cx="8459640" cy="14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ЧМЕНИ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93600" y="121932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380880" y="1389240"/>
            <a:ext cx="8077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гледу проверит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а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љиво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ључити или дијагностиковати спиналне дефек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ЧМЕНИ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Б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ит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убљења (јамице) - честа сакрококцигеална, не доводи до поремећа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усе – могу комуницирати са кич.кана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у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акав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бљања (отоке) – често удружени са малформацијама кич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ЕМИТЕ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040" y="1484280"/>
            <a:ext cx="715788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љи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о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форма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пози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т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па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у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гу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вину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дук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една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н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уште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у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ниталн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лаз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НИТАЛН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ЛАЗИЈ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3716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l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н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екси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колениц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укцио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а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мур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ћ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абулу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с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olan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укцио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а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ч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дукц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мур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абулу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кач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абулу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патор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ћа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ЛОШ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њи прегле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и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– 24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ЛОШК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520" y="1599840"/>
            <a:ext cx="8786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њуј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 положаја тел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 покретљив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рефлекс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ЛОШК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0880" y="1294920"/>
            <a:ext cx="83296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е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ст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њују се периоди будности и сна, у почетку ирегуларно, након неколико недеља рит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ш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алерт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олен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о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533520"/>
            <a:ext cx="8640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ложа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новорођенчета преко 37 ГН -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аг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ексор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и екстремитети у флексиј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ција екстензор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нак неуролошког оштећењ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Г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брамбен функција није у потпуности развије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о је стварање зно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ан. Крајем 1- ог месеца постаје 5,5 као код одрасл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6FAA2208.wav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цена покретљивос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атра се бар неколио мину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дит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етричност покр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невољних покре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и тон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а хипотонија- при лежању на леђима кукове држи у потпуној абдукцији (``као жаба``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г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560" y="1295280"/>
            <a:ext cx="867708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ув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ексор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ш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ђ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ећ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а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вин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- ``тракција врата``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буш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ража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ензор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трај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ж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ет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м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њ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ј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г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ме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равн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н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и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а хипотонија-``клизи кроз руке``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 мишића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в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ује се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ралн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изонталн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а хипотонија- ``као крпена лутка``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ивног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у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ган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ужањ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емите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атр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ћ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бит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флексио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ај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ођ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њ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емите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ља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ђ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стра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илар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онија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ам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ивног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ђ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ч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ка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иц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колениц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а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уж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колениц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и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колениц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колениц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°90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литеалн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он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стацијс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рело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итивни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600" y="1218960"/>
            <a:ext cx="8610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ажав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вољ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је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цијс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кортикал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њив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натал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атив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абљ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љ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ш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фикс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у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љ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п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ђ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88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``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ing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`` - рефлекс четири тач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иром углова усана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 окреће главу на страну подраживања и покушава да ухвати предм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3- 4 месец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та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ставља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4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с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4200" y="-360"/>
            <a:ext cx="87156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5713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 глабеле- притиском на корен носа, новорођенче трепн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симетрични рефлекс врат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usov/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чеваоца)- на леђима се окрене глава у страну: са исте стране опружи руку и ногу, са супротне их сав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иметрични рефекс врата – флексија главе ка грудном кошу, доводи до флексије ног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 algn="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ђењу, траје до 6 месец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04000" y="4437000"/>
            <a:ext cx="6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28600" y="609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5713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флек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ат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њ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емитет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а се прст у шаку, коју дете затвара. Повлачењем, дете треба само да држи пр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стра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абљ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тан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з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ксу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хијалис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ат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-10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28760"/>
            <a:ext cx="73008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ефлек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ат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њ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емитет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432080" y="216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013360" y="2014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6588000" y="2781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1403280" y="278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857160" y="1689120"/>
            <a:ext cx="7753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ир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н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тиј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чењ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атањ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њи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емитет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ј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њи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емитет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ј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Г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125360"/>
            <a:ext cx="8858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жичас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шк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мориза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оцијано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па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мотор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но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642960"/>
            <a:ext cx="892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Галанто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ралн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ган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лачењ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ко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чме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б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ж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рет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п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стана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чме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д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зисти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ерезов рефлекс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жајем процесус спинозуса торакалне кичме, дете одиже карлиц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669960" y="270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285840" y="642960"/>
            <a:ext cx="8858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Позитив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ор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жањ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зух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н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а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ни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иру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упир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ужен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а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лик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822240" y="239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03228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622840" y="209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04920" y="7142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Рефлек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матск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у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равн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ањањ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е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 направи неколико ``корака``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рескок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иђ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рек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. додирн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њи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пал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иц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ко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МОР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 рефлек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8129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01336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501336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00040" y="1268280"/>
            <a:ext cx="826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у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лошк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и две фа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у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етрч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тенди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(“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ља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ж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ч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тпу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т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ђ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.брахијали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5608080" y="191628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3789360"/>
            <a:ext cx="84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атра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етричнос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и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лабијалн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з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ос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ара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за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357120" y="54936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тетивних рефлек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457200" y="1295280"/>
            <a:ext cx="828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ни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еал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њуктивал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т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у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ув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нијал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ањ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7120" y="1412640"/>
            <a:ext cx="83296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ов рефлек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и између 3. и 6. месе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 Бабинског перзисти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2. месе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 хватања до 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4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есец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ич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как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матског хода перзисти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6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 месеца јављају се 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н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з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пор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ј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Г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nix caseosa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ива кожу након рођ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колико дана се ољушти и отпадн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quamatio neonatorum-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 дана се ољушти површински слој епидермиса –остаје безазлени еритем или макулозни оси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Г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ia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еличасто жућкасте ситне цисте настале накупљањем себума и десквамираног епите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услед хормонима изазваног појачаног лучења лојниш жлез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тано пролазе за 2- 3 недељ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AB302239.wav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Г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836640"/>
            <a:ext cx="86104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iaria crystallina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ш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ј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али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кулиц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iaria rubra 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ш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ј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али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упљ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укоци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ула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р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-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Г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2920" y="1214280"/>
            <a:ext cx="8429760" cy="51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наталне ак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љ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н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нејџ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6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ј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љезд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нал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е (андроген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бороичн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итис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ог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утање коже. Јавља се у регији богатој лојним жлезд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ema toxicum neonato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уло- папулозне промене, које брзо пређу у пусту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0T15:11:42Z</dcterms:created>
  <dc:creator>Miki</dc:creator>
  <dc:description/>
  <dc:language>en-US</dc:language>
  <cp:lastModifiedBy>Miki</cp:lastModifiedBy>
  <dcterms:modified xsi:type="dcterms:W3CDTF">2020-09-29T15:08:50Z</dcterms:modified>
  <cp:revision>83</cp:revision>
  <dc:subject/>
  <dc:title>PowerPoint Presentation</dc:title>
</cp:coreProperties>
</file>